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4E4-2EEA-434D-9704-D1C5B653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6EB-F7EC-449F-9627-3B9A0626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0A7-6AF6-4BC3-83FF-68989A16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AD8-E078-4EE4-84F5-1C5F577A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4ED-4DE7-468B-AB4F-AC9AE876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CCD-7CD4-4514-88B6-29EB8746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72B-6DD1-438C-AB08-C29DFB00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391-E077-453B-B344-8962B14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513-8189-4766-A23F-86A0ADD8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42B-D1DD-441A-B452-0304D464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C46-E7FF-45CF-AE4D-9ADEE971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E35-8858-4321-8728-7725458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4A4E-FE96-44AB-93B5-7626BE470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identify and explain cause and effect sit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ch the video.  Write down a cause and effect situ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ecause…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cau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ffec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hting for Fairness” Graphic Organizer on Cause an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 work on a cause and effect example together, finish the graphic organizer on your ow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, read quietly until we are all ready to discuss cause and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oose an article from the front of the room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LE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annotations on the arti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 RR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the RRJ, answ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re the people in your article affected by the actions of others that discriminated against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for RR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article I 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(maybe a group of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_____________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maybe the group discriminated against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…_(feel, not be able to…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know this is true be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evidence #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ticle also mentioned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(text evidence #2)                                                    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helped me understand…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deas in articles and discover more cause/effect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0:51:10Z</dcterms:created>
  <dc:creator>Administrator</dc:creator>
  <dc:description/>
  <dc:language>en-US</dc:language>
  <cp:lastModifiedBy>Administrator</cp:lastModifiedBy>
  <dcterms:modified xsi:type="dcterms:W3CDTF">2010-08-31T21:17:34Z</dcterms:modified>
  <cp:revision>4</cp:revision>
  <dc:subject/>
  <dc:title>9-2 I can identify and explain cause and effect situations.</dc:title>
</cp:coreProperties>
</file>